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7244-7B66-44B2-AFE5-0628C30BB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58FA-840C-4002-901E-963B7AD2F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4AAB-0659-46A2-B163-58D2820F9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9FD2-EEFC-4143-98E8-5C271546C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CD336D-0F4E-44A8-A324-06B4AFE98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B3534B-EF21-4EF4-914B-922C64B24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3C3A57-E95E-4DFB-B322-B46D8A666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48E3EB-460A-46FA-B51B-AF0DEDDF4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145C9D-34E2-4447-8356-AB3E1AA6E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6F1C27-923D-455D-A58D-F254D7EF2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DCA809-F6F4-4AD6-910A-6CFF824E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48F2-2861-4B33-8C94-959C1084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57277B-18B8-476B-B25A-38D3C53E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4F99D4-123F-42F1-A8B0-FB73D268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E06ABC-22B2-4E58-B1EA-86F06C0B5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67696E-180B-42A3-B3D9-AE8F5EC71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FB6533-FF4F-420D-974F-76E43AF03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2BB502-4E09-4F2D-9A7A-AB3438F9B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3A72DB-05E1-468F-B4E6-F7A4B2D9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3F06B5-DFCF-4FF7-859A-3981C77A1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64F5BE-BC0F-4E0C-BC8F-5E59384B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CEF6D1-A531-4460-B82D-10FCAC541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C47A-A095-462F-9DA0-7C3928186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4004DE-1015-40D2-B9D7-DF9D923F6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7E8C81-3496-4747-9F1B-89734429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6C0EED-F6DC-49E8-805C-26E5CBD6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359F7E-F01D-44DF-BF52-CC131548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C2B72F-04EA-49A3-951D-C0AED6F82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7D4254-6024-44EE-984B-90ACB605C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AF45E4-1380-4000-A0B9-E3C138086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CF273-E3FC-43DF-8215-5CFCC2648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02787-21FD-4610-B7CB-EED0CC78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B9260-8B89-49AA-BBC6-99171BE24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3346-9CFD-4EE6-A5E4-FAD9C321F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29FAF-D206-46A1-BDC1-FB94D42FA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6FE4B-3E92-4FCB-A213-EB7E4FDBC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E1CD4-AB92-4B46-9ADA-052632E24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BEE14-FB0D-40D1-A7B0-223A2BD9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6E3F7-DAE2-44F9-98E5-26C558F3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19CAB-4179-46FF-8630-865D339A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ACE52-4DBA-4CC1-8809-73CC1C75A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DC6CB-A637-4925-A016-38A17E14E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A07F2-1ECC-403C-B6C9-E66048F68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1167-EBC3-4AAD-97B3-81AB8A98D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5FD3-2B60-4168-807B-B2DA66970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43A7-CC97-4AAC-A765-65B27B7B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3364-F3DA-4ABB-898D-DB2946BE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2A49-391F-44CF-99BD-E582BB68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566A7-D850-4A0F-81A1-941EDBB3F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44200-655F-4CA6-8A56-807BAF95C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D47CD-D162-4162-9823-54F1A12DC0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5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3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3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7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B4C12-EBEC-4FAD-A23F-81005D3342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ésentation de l’activité 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3276720" y="1905120"/>
            <a:ext cx="6933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Agence événementiel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Organisation de soirées, de concerts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2895480" cy="10731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0" y="3352680"/>
            <a:ext cx="4114800" cy="32767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4114800" y="3657600"/>
            <a:ext cx="50292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ésentation de l’activité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" y="266688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Objectif 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mplanter une base de données pour gérer l’envoi des cartons d’invitation par courr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ctivité BLUESTAR: le résultat à atteindre à l’issue de l’activité  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rcRect l="3138" t="22936" r="43597" b="44948"/>
          <a:stretch/>
        </p:blipFill>
        <p:spPr>
          <a:xfrm>
            <a:off x="838080" y="2743200"/>
            <a:ext cx="7388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push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ctivité BLUESTAR: diagramme des flux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0" y="1676520"/>
            <a:ext cx="8762760" cy="4960440"/>
            <a:chOff x="0" y="1676520"/>
            <a:chExt cx="8762760" cy="4960440"/>
          </a:xfrm>
        </p:grpSpPr>
        <p:sp>
          <p:nvSpPr>
            <p:cNvPr id="198" name=""/>
            <p:cNvSpPr/>
            <p:nvPr/>
          </p:nvSpPr>
          <p:spPr>
            <a:xfrm>
              <a:off x="6798960" y="1676520"/>
              <a:ext cx="1510560" cy="113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irecteur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950160" y="5492520"/>
              <a:ext cx="1510920" cy="1144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ecrétai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0" y="3775320"/>
              <a:ext cx="1359720" cy="1526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Bureau de Post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345720" y="2630160"/>
              <a:ext cx="906480" cy="2862000"/>
            </a:xfrm>
            <a:custGeom>
              <a:avLst/>
              <a:gdLst/>
              <a:ahLst/>
              <a:rect l="l" t="t" r="r" b="b"/>
              <a:pathLst>
                <a:path w="874" h="2880">
                  <a:moveTo>
                    <a:pt x="873" y="2880"/>
                  </a:moveTo>
                  <a:lnTo>
                    <a:pt x="0" y="2265"/>
                  </a:lnTo>
                  <a:lnTo>
                    <a:pt x="0" y="739"/>
                  </a:lnTo>
                  <a:lnTo>
                    <a:pt x="87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975360" y="2820960"/>
              <a:ext cx="578880" cy="2671200"/>
            </a:xfrm>
            <a:custGeom>
              <a:avLst/>
              <a:gdLst/>
              <a:ahLst/>
              <a:rect l="l" t="t" r="r" b="b"/>
              <a:pathLst>
                <a:path w="664" h="2880">
                  <a:moveTo>
                    <a:pt x="663" y="2880"/>
                  </a:moveTo>
                  <a:lnTo>
                    <a:pt x="0" y="2278"/>
                  </a:lnTo>
                  <a:lnTo>
                    <a:pt x="0" y="731"/>
                  </a:lnTo>
                  <a:lnTo>
                    <a:pt x="66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856640" y="2820960"/>
              <a:ext cx="150840" cy="2671200"/>
            </a:xfrm>
            <a:custGeom>
              <a:avLst/>
              <a:gdLst/>
              <a:ahLst/>
              <a:rect l="l" t="t" r="r" b="b"/>
              <a:pathLst>
                <a:path w="298" h="2520">
                  <a:moveTo>
                    <a:pt x="0" y="0"/>
                  </a:moveTo>
                  <a:lnTo>
                    <a:pt x="298" y="881"/>
                  </a:lnTo>
                  <a:lnTo>
                    <a:pt x="298" y="1934"/>
                  </a:lnTo>
                  <a:lnTo>
                    <a:pt x="1" y="252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158680" y="2630160"/>
              <a:ext cx="604080" cy="3052800"/>
            </a:xfrm>
            <a:custGeom>
              <a:avLst/>
              <a:gdLst/>
              <a:ahLst/>
              <a:rect l="l" t="t" r="r" b="b"/>
              <a:pathLst>
                <a:path w="704" h="3060">
                  <a:moveTo>
                    <a:pt x="0" y="3060"/>
                  </a:moveTo>
                  <a:lnTo>
                    <a:pt x="704" y="2208"/>
                  </a:lnTo>
                  <a:lnTo>
                    <a:pt x="704" y="1241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359720" y="4919760"/>
              <a:ext cx="5590080" cy="114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06120" y="5301720"/>
              <a:ext cx="6345720" cy="11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1359720" y="4538160"/>
              <a:ext cx="5741280" cy="11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5638680" y="1600200"/>
            <a:ext cx="3353040" cy="5105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419720" y="99072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Domaine d’étude 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gestion de l’envoi des cartons d’invitation par courri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16200000">
            <a:off x="4824000" y="3481200"/>
            <a:ext cx="266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mande de liste d’invités (1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16200000">
            <a:off x="5891760" y="3861360"/>
            <a:ext cx="2055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Comunication de la liste d’invités (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rot="16200000">
            <a:off x="6775560" y="3587400"/>
            <a:ext cx="2513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dresses à rajouter dans le carnet  d’adresses(5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rot="16200000">
            <a:off x="7825320" y="4166280"/>
            <a:ext cx="2055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rnet d’adresses mis à jour (7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658200">
            <a:off x="1904760" y="4572000"/>
            <a:ext cx="312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mande d’envoi groupé (3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rot="658200">
            <a:off x="1915920" y="5116680"/>
            <a:ext cx="358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on de confirmation d’envoi (4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658200">
            <a:off x="2057040" y="5562720"/>
            <a:ext cx="358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tour du courrier (6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nctionnalités à mettre en place dans le logiciel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" y="106668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Saisie du carnet d’adre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160020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Mise à jour des donné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2209680"/>
            <a:ext cx="807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Possibilité d’effectuer des tris dans la base de données (ex. : par disponibilité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04920" y="312408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Edition d’étiquettes d’adresses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nctionnalités du logiciel Acces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" y="106668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Table : permet de créer les tables et insérer les donné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" y="1600200"/>
            <a:ext cx="807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Formulaire : permet d’ajouter ou mettre à jour les données dans les tables sans changer la structure de la base de donné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" y="259092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Requêtes : permet d’interroger la base de donné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3276720"/>
            <a:ext cx="807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Etat : permet d’éditer de réaliser des documents imprimables à partir de la base de donné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livier</cp:lastModifiedBy>
  <dcterms:modified xsi:type="dcterms:W3CDTF">2009-12-05T12:25:48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