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jpeg" ContentType="image/jpeg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sldIdLst>
    <p:sldId id="256" r:id="rId6"/>
    <p:sldId id="257" r:id="rId7"/>
    <p:sldId id="258" r:id="rId8"/>
    <p:sldId id="259" r:id="rId9"/>
    <p:sldId id="260" r:id="rId10"/>
    <p:sldId id="261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470A4-BA39-4150-90BE-DBD60CE80C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F6C32-4FCA-4445-A581-56A281556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AC4062-5E4D-49AA-951D-9C3EE8BB15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09D5C-2BB7-4B61-9AD4-E2570DAB9DA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F6AC1C6-FFF5-476B-9151-3FFBAED9A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57021CC-C518-45B2-840E-EDD3DB8E8F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C143558-FEC0-4004-B3AB-7D870CFEC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AE5FC88-18BE-4351-A6C8-5D3025397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217F4AD-9442-4FD1-B675-135656920B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7527D29-595D-46F5-8D1C-47C8F0420D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31F2FB4-835A-47EE-81AB-2F11032D04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7DA4DB-29AF-4D3E-B41A-A207141555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EFFA11-3ED0-452A-8083-493C93807D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3627D4B-CE91-4CA3-A24D-9C6D5E9838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8F731F7-27C5-48D3-8249-9C51A741A1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BAB19F8-5581-4058-8463-F2435398449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BDB4A7F-B553-4510-A4EE-9A3FB740903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62675C6-9B1B-48C2-B809-6580FCCD15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B6AEFD8-453E-4C4B-B3C5-386716C42A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B78E30A-5D79-4B06-83D5-EC4B6A7895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7C88C2CC-0E0B-4ADA-AF38-4B543C6AB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3987EB2-037B-4777-856F-E1B5BAC176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41729-4FCB-456E-9D8D-7E7838DBF3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EC2CB30-FB05-4D3D-88D3-15920A7188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CDA9E7B-42BC-429E-B162-FC8E4088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94598CD-6F6B-4765-9D89-14F0A13DE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F430315-622E-4B69-834A-6752291EC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CE31089-01B0-4E04-A9AE-7B1B3A045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E59EB2-33DE-46D3-BE3F-7D922DC645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A0F1985-8D4A-4980-856E-9CA669FE82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401BEAE-C734-4D82-AEC7-A1BEA09901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1E9E768-E3DB-4019-9EBD-8AAEDE8CE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7EDFADC-036A-499B-AD17-573A150F5D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83DBD8-D14E-490F-9D9B-0DBA3AEED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BDF219-3F65-4AE2-B781-59E7CFA563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3664536-4454-493B-AEA3-28447FFAF1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4552209-63FB-4AE5-A284-C413EE3E28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0FF42E0-F0D5-431D-A24E-A9EAF45EC1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1F5E3D8-3794-4EE6-89FA-E7AF943BC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DBAD5E-0798-4BBE-A6B9-9FF24C0E06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EBAF1C4-AC2F-4757-8EEC-963AAFC1D2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3329BD-C6A1-4949-8F6E-45D71619491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0D439D-80E9-4259-9F1F-20A955A08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30C1A-039B-471D-A265-C5925D2219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45720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85772-3A4B-4A80-A685-C61824C7DC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03A475-3E93-4AF8-8BF7-229D8DA9CB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9192CC-ACFC-4D59-8100-03F03C8F11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EB29-D79C-4272-9CFA-BEB48B3AB0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0512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cc00"/>
              </a:buClr>
              <a:buSzPct val="120000"/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cc00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8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EC824E-7519-452E-849D-88505559347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996920"/>
            <a:ext cx="77724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"/>
          <p:cNvSpPr/>
          <p:nvPr/>
        </p:nvSpPr>
        <p:spPr>
          <a:xfrm>
            <a:off x="285840" y="2803680"/>
            <a:ext cx="1440" cy="3035160"/>
          </a:xfrm>
          <a:custGeom>
            <a:avLst/>
            <a:gdLst/>
            <a:ahLst/>
            <a:rect l="l" t="t" r="r" b="b"/>
            <a:pathLst>
              <a:path w="0" h="1912">
                <a:moveTo>
                  <a:pt x="0" y="0"/>
                </a:moveTo>
                <a:lnTo>
                  <a:pt x="0" y="6"/>
                </a:lnTo>
                <a:lnTo>
                  <a:pt x="0" y="6"/>
                </a:lnTo>
                <a:lnTo>
                  <a:pt x="0" y="60"/>
                </a:lnTo>
                <a:lnTo>
                  <a:pt x="0" y="1912"/>
                </a:lnTo>
                <a:lnTo>
                  <a:pt x="0" y="1912"/>
                </a:lnTo>
                <a:lnTo>
                  <a:pt x="0" y="0"/>
                </a:lnTo>
                <a:lnTo>
                  <a:pt x="0" y="0"/>
                </a:lnTo>
                <a:close/>
              </a:path>
            </a:pathLst>
          </a:custGeom>
          <a:solidFill>
            <a:srgbClr val="6bba2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ftr" idx="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Num" idx="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FAFDC8-79E2-46E0-9278-3BAB7CC10B7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dt" idx="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ftr" idx="7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ldNum" idx="8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F8561-6CA6-4179-BB79-D9C7B994EDF4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84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85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94" name="PlaceHolder 3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 type="dt" idx="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3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34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136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137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8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39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0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1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2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3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4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5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46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47" name="PlaceHolder 1"/>
          <p:cNvSpPr>
            <a:spLocks noGrp="1"/>
          </p:cNvSpPr>
          <p:nvPr>
            <p:ph type="dt" idx="10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 type="ftr" idx="11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 type="sldNum" idx="1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D205B2-F82E-4206-8C41-955173CA38A7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0" lang="en-US" sz="5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457200" y="291960"/>
            <a:ext cx="8229600" cy="138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ff"/>
                </a:solidFill>
                <a:latin typeface="Tahoma"/>
              </a:rPr>
              <a:t>Présentation de l’activité :</a:t>
            </a:r>
            <a:endParaRPr b="0" lang="en-US" sz="4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8" name=""/>
          <p:cNvSpPr/>
          <p:nvPr/>
        </p:nvSpPr>
        <p:spPr>
          <a:xfrm>
            <a:off x="3276720" y="1905120"/>
            <a:ext cx="693396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Agence événementiell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Organisation de soirées, de concerts…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2895480" cy="107316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3"/>
          <a:stretch/>
        </p:blipFill>
        <p:spPr>
          <a:xfrm>
            <a:off x="0" y="3352680"/>
            <a:ext cx="4114800" cy="32767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4"/>
          <a:stretch/>
        </p:blipFill>
        <p:spPr>
          <a:xfrm>
            <a:off x="4114800" y="3657600"/>
            <a:ext cx="5029200" cy="2666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Présentation de l’activité 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228600" y="2666880"/>
            <a:ext cx="8534520" cy="94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ffffff"/>
                </a:solidFill>
                <a:uFillTx/>
                <a:latin typeface="Arial"/>
              </a:rPr>
              <a:t>Objectif :</a:t>
            </a:r>
            <a:r>
              <a:rPr b="1" lang="en-US" sz="2800" spc="-1" strike="noStrike">
                <a:solidFill>
                  <a:srgbClr val="ffffff"/>
                </a:solidFill>
                <a:latin typeface="Arial"/>
              </a:rPr>
              <a:t> implanter une base de données pour gérer l’envoi des cartons d’invitation par courrier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ité BLUESTAR: le résultat à atteindre à l’issue de l’activité  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rcRect l="3138" t="22936" r="43597" b="44948"/>
          <a:stretch/>
        </p:blipFill>
        <p:spPr>
          <a:xfrm>
            <a:off x="838080" y="2743200"/>
            <a:ext cx="7388280" cy="1981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p:transition>
    <p:push dir="r"/>
  </p:transition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9" dur="20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Activité BLUESTAR: diagramme des flux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"/>
          <p:cNvGrpSpPr/>
          <p:nvPr/>
        </p:nvGrpSpPr>
        <p:grpSpPr>
          <a:xfrm>
            <a:off x="0" y="1676520"/>
            <a:ext cx="8762760" cy="4960440"/>
            <a:chOff x="0" y="1676520"/>
            <a:chExt cx="8762760" cy="4960440"/>
          </a:xfrm>
        </p:grpSpPr>
        <p:sp>
          <p:nvSpPr>
            <p:cNvPr id="198" name=""/>
            <p:cNvSpPr/>
            <p:nvPr/>
          </p:nvSpPr>
          <p:spPr>
            <a:xfrm>
              <a:off x="6798960" y="1676520"/>
              <a:ext cx="1510560" cy="11340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Directeur 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6950160" y="5492520"/>
              <a:ext cx="1510920" cy="114444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ecrétaire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0" y="3775320"/>
              <a:ext cx="1359720" cy="1526400"/>
            </a:xfrm>
            <a:prstGeom prst="ellipse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ffffff"/>
                  </a:solidFill>
                  <a:latin typeface="Arial"/>
                </a:rPr>
                <a:t>Bureau de Poste</a:t>
              </a:r>
              <a:endParaRPr b="0" lang="en-US" sz="20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6345720" y="2630160"/>
              <a:ext cx="906480" cy="2862000"/>
            </a:xfrm>
            <a:custGeom>
              <a:avLst/>
              <a:gdLst/>
              <a:ahLst/>
              <a:rect l="l" t="t" r="r" b="b"/>
              <a:pathLst>
                <a:path w="874" h="2880">
                  <a:moveTo>
                    <a:pt x="873" y="2880"/>
                  </a:moveTo>
                  <a:lnTo>
                    <a:pt x="0" y="2265"/>
                  </a:lnTo>
                  <a:lnTo>
                    <a:pt x="0" y="739"/>
                  </a:lnTo>
                  <a:lnTo>
                    <a:pt x="87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6975360" y="2820960"/>
              <a:ext cx="578880" cy="2671200"/>
            </a:xfrm>
            <a:custGeom>
              <a:avLst/>
              <a:gdLst/>
              <a:ahLst/>
              <a:rect l="l" t="t" r="r" b="b"/>
              <a:pathLst>
                <a:path w="664" h="2880">
                  <a:moveTo>
                    <a:pt x="663" y="2880"/>
                  </a:moveTo>
                  <a:lnTo>
                    <a:pt x="0" y="2278"/>
                  </a:lnTo>
                  <a:lnTo>
                    <a:pt x="0" y="731"/>
                  </a:lnTo>
                  <a:lnTo>
                    <a:pt x="664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head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7856640" y="2820960"/>
              <a:ext cx="150840" cy="2671200"/>
            </a:xfrm>
            <a:custGeom>
              <a:avLst/>
              <a:gdLst/>
              <a:ahLst/>
              <a:rect l="l" t="t" r="r" b="b"/>
              <a:pathLst>
                <a:path w="298" h="2520">
                  <a:moveTo>
                    <a:pt x="0" y="0"/>
                  </a:moveTo>
                  <a:lnTo>
                    <a:pt x="298" y="881"/>
                  </a:lnTo>
                  <a:lnTo>
                    <a:pt x="298" y="1934"/>
                  </a:lnTo>
                  <a:lnTo>
                    <a:pt x="1" y="252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8158680" y="2630160"/>
              <a:ext cx="604080" cy="3052800"/>
            </a:xfrm>
            <a:custGeom>
              <a:avLst/>
              <a:gdLst/>
              <a:ahLst/>
              <a:rect l="l" t="t" r="r" b="b"/>
              <a:pathLst>
                <a:path w="704" h="3060">
                  <a:moveTo>
                    <a:pt x="0" y="3060"/>
                  </a:moveTo>
                  <a:lnTo>
                    <a:pt x="704" y="2208"/>
                  </a:lnTo>
                  <a:lnTo>
                    <a:pt x="704" y="1241"/>
                  </a:lnTo>
                  <a:lnTo>
                    <a:pt x="1" y="0"/>
                  </a:ln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1359720" y="4919760"/>
              <a:ext cx="5590080" cy="11448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906120" y="5301720"/>
              <a:ext cx="634572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 flipH="1" flipV="1">
              <a:off x="1359720" y="4538160"/>
              <a:ext cx="5741280" cy="11444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8" name=""/>
          <p:cNvSpPr/>
          <p:nvPr/>
        </p:nvSpPr>
        <p:spPr>
          <a:xfrm>
            <a:off x="5638680" y="1600200"/>
            <a:ext cx="3353040" cy="5105520"/>
          </a:xfrm>
          <a:prstGeom prst="rect">
            <a:avLst/>
          </a:prstGeom>
          <a:noFill/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4419720" y="990720"/>
            <a:ext cx="4724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 u="sng">
                <a:solidFill>
                  <a:srgbClr val="ffffff"/>
                </a:solidFill>
                <a:uFillTx/>
                <a:latin typeface="Arial"/>
              </a:rPr>
              <a:t>Domaine d’étude :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gestion de l’envoi des cartons d’invitation par courrier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rot="16200000">
            <a:off x="4824000" y="3481200"/>
            <a:ext cx="26672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e de liste d’invités (1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 rot="16200000">
            <a:off x="5891760" y="3861360"/>
            <a:ext cx="20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600" spc="-1" strike="noStrike">
                <a:solidFill>
                  <a:srgbClr val="ffffff"/>
                </a:solidFill>
                <a:latin typeface="Arial"/>
              </a:rPr>
              <a:t>Comunication de la liste d’invités (2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 rot="16200000">
            <a:off x="6775560" y="3587400"/>
            <a:ext cx="25131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dresses à rajouter dans le carnet  d’adresses(5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rot="16200000">
            <a:off x="7825320" y="4166280"/>
            <a:ext cx="2055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Carnet d’adresses mis à jour (7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 rot="658200">
            <a:off x="1904760" y="4572000"/>
            <a:ext cx="3124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Demande d’envoi groupé (3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rot="658200">
            <a:off x="1915920" y="5116680"/>
            <a:ext cx="358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Bon de confirmation d’envoi (4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 rot="658200">
            <a:off x="2057040" y="5562720"/>
            <a:ext cx="3586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Retour du courrier (6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40" dur="indefinite" restart="never" nodeType="tmRoot">
          <p:childTnLst>
            <p:seq>
              <p:cTn id="41" dur="indefinite" nodeType="mainSeq">
                <p:childTnLst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" fill="hold">
                      <p:stCondLst>
                        <p:cond delay="indefinite"/>
                      </p:stCondLst>
                      <p:childTnLst>
                        <p:par>
                          <p:cTn id="65" fill="hold">
                            <p:stCondLst>
                              <p:cond delay="0"/>
                            </p:stCondLst>
                            <p:childTnLst>
                              <p:par>
                                <p:cTn id="6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" dur="500" fill="hold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21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1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" fill="hold">
                      <p:stCondLst>
                        <p:cond delay="indefinite"/>
                      </p:stCondLst>
                      <p:childTnLst>
                        <p:par>
                          <p:cTn id="83" fill="hold">
                            <p:stCondLst>
                              <p:cond delay="0"/>
                            </p:stCondLst>
                            <p:childTnLst>
                              <p:par>
                                <p:cTn id="8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7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" fill="hold">
                      <p:stCondLst>
                        <p:cond delay="indefinite"/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3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nctionnalités à mettre en place dans le logiciel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28600" y="10666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Saisie du carnet d’adress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228600" y="160020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Mise à jour des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228600" y="220968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Possibilité d’effectuer des tris dans la base de données (ex. : par disponibilité…)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304920" y="3124080"/>
            <a:ext cx="8076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Edition d’étiquettes d’adresses…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0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1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fill="hold">
                      <p:stCondLst>
                        <p:cond delay="indefinite"/>
                      </p:stCondLst>
                      <p:childTnLst>
                        <p:par>
                          <p:cTn id="103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5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2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4" fill="hold">
                      <p:stCondLst>
                        <p:cond delay="indefinite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8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bfeaf3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33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Fonctionnalités du logiciel Access 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106668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Table : permet de créer les tables et insérer les données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228600" y="160020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Formulaire : permet d’ajouter ou mettre à jour les données dans les tables sans changer la structure de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2590920"/>
            <a:ext cx="80773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Requêtes : permet d’interroger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228600" y="3276720"/>
            <a:ext cx="80773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- Etat : permet d’éditer de réaliser des documents imprimables à partir de la base de donné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ransition>
    <p:push dir="r"/>
  </p:transition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indefinite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4" fill="hold">
                      <p:stCondLst>
                        <p:cond delay="indefinite"/>
                      </p:stCondLst>
                      <p:childTnLst>
                        <p:par>
                          <p:cTn id="135" fill="hold">
                            <p:stCondLst>
                              <p:cond delay="0"/>
                            </p:stCondLst>
                            <p:childTnLst>
                              <p:par>
                                <p:cTn id="13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olivier</cp:lastModifiedBy>
  <dcterms:modified xsi:type="dcterms:W3CDTF">2009-12-05T12:25:48Z</dcterms:modified>
  <cp:revision>43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