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E364-D2AE-402C-A106-C71CF9A2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DB4C-DE03-447C-862B-45ACEF2D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1ABD-571C-411C-A400-C7AF20BB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A9DF-B253-4B9E-B547-F7079888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A31-EDDC-42BF-956B-9A598551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154-40E1-4F63-B9DB-9DA7F8E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B73D-B22A-4EFE-A24E-06EE535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F10-3C93-4E21-B398-53DDD73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17D3-6D3E-4E2E-8DEA-7A90BCF5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9458-C14A-4D13-A8D3-CE07FB1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37CE-0B62-4C29-A81F-9B3189B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5899-6C2B-4F9F-A6AE-4448589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846B-55A8-424A-A3B3-062614C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B9A-C18C-43B0-A63B-B99043D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3830-71D0-447C-B3C0-223098BF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3088-D761-4B7D-91C3-2DC2B39A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3E0C-9198-4774-B829-DCDDB48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A023-5D79-4150-8920-FEC3E264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C146-8FD1-4905-B5FC-8606844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F8D8-4671-4B02-B07E-4793C98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E0FA-685C-4319-B5B0-FF2208E1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DA4E-156E-49D6-BA33-495629E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2CCD-20AD-4E3E-AA78-E3D724D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6679-CEDA-4A7A-8134-CC1E39F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A597-ECEB-4EFE-BADE-8ABB795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9EA5-E8AB-4334-9B1B-9C31D31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CF80-B732-4DC6-A25C-8FEC0C3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9CA5-860E-4E32-B15B-E30EF75A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8582-D917-4025-9BBF-5B728969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7270-FE76-4DCE-8F0D-29D5BA0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76B99-274E-4BBE-9643-0997C389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7A927-285F-4D80-8F43-3D56563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24B16-E94B-4E70-92D8-000AD74A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3DB0-70EF-4418-A3DD-000B46C6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84EBD-8308-44BF-BCF4-210DB2C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73254-37E5-4057-889F-6EADDF2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94134-0144-4A91-88B0-3524CED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F1988-33B3-4A1B-BA73-9FA73CA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7E2D2-C1EB-4BBD-9C1A-722939E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E5836-B08F-4E00-A573-155782F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2F014-5D03-4E7A-919F-97F27D1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32E42-B9CC-4BE4-B5E1-03699426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9923F-8E63-4391-8960-B3DD228E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1DD62-6159-4DA1-A2DC-DF83E2A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DE6B-07A4-4F73-9985-6D77FC17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44267-3604-4A91-9F3E-F3532E89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43972-E845-40BD-B42F-4C954C9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694C3-C75C-4E24-9CEF-819BE67F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9457A-D17B-4D0C-A903-0A0FF4C5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F58ED-41CC-4DE1-8B9E-375DE24F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EAA79-1F30-48E4-AAD4-227C225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3B1B9-FFCB-40DD-BC17-24AD42A9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E0D4-4A54-4FBF-8E82-CDE3A65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F4648-A7AF-4080-AA2A-6644B745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E563A-DD54-4FC9-9C7A-B1DCB506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A172-8AEA-4315-AE8C-F0D65AAB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68F70-7F58-448A-AC8D-C2D4949A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4426-5CC0-4CB6-BD77-72C67595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BAC19-12C6-43F5-B1F8-08D82B60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6723-0A5E-4E9B-A7EF-97677E2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1C2FC-C2D4-4361-97D2-CFA9E87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3794E-363F-4C1B-A595-22DB4792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3977D-6F64-49B7-A6B0-5DF94B5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19A0-96E2-4C1B-AAB6-152F172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4AFBF-4F17-4F3D-BAC4-7D5C913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5631-8F5F-41C7-8F16-C8F8132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FC97-2CDE-42E2-BEBC-B89F48F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02484-3DAE-4D56-87C4-8541ADDE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08536-407B-4DAC-B423-9F99E22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DEC05-A737-47DB-81E7-AB1524BF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E3449-6FEE-4089-827E-DF892591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9A60-3D79-4B08-BFD5-1253B4E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5CAB-A75E-46FC-B24E-8EC78BE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B3DE-DE08-4A83-AC9E-03F2EBB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81E4-550C-432A-A01B-68373F9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9A8A-32A2-41E3-883B-AE4C088D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A158-3772-4E6E-8E1C-38D2952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195A-F768-44C3-86FE-7B48903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7CE4-55BD-4F8B-8971-390D849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F8E6-D69B-402A-89B9-238C319B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F40C0-BB2A-4BF4-B457-B5F60A9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9BF42-880C-44B0-81E5-42E11719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CF3C-37DD-4B1B-9860-6B95BB4B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47C3-A2D8-4105-93EB-300C5B5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3D4-9A3C-454D-A521-09662FE407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A72-64CE-4FDE-80A5-06C3DA14F8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DD74-91D3-4E40-B639-2E99F418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B5B-AF1E-4367-BA91-5E22698E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D4E0-AC4D-46E9-8498-BA79265DB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EA52-5425-4B44-B158-BD0108967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9C11-9C67-4E03-B3C8-FF58ABF0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hapitre 10 : les bases de données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4952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enregistrements 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orrespondent à chaque ligne de la 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16855" r="6105" b="80753"/>
          <a:stretch/>
        </p:blipFill>
        <p:spPr>
          <a:xfrm>
            <a:off x="228600" y="2286000"/>
            <a:ext cx="8153280" cy="533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581280" y="281952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4724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4. Le schéma de la table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nsemble des champs d’une 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rcRect l="0" t="10010" r="1720" b="87219"/>
          <a:stretch/>
        </p:blipFill>
        <p:spPr>
          <a:xfrm>
            <a:off x="304920" y="1905120"/>
            <a:ext cx="8534160" cy="685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581280" y="259092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rcRect l="0" t="10586" r="71830" b="61909"/>
          <a:stretch/>
        </p:blipFill>
        <p:spPr>
          <a:xfrm>
            <a:off x="152280" y="2035080"/>
            <a:ext cx="6934320" cy="2689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5120" y="533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valeurs (ou données)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e sont les éléments saisis dans les cell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267080"/>
            <a:ext cx="1752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4495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99cc"/>
                </a:solidFill>
                <a:uFillTx/>
                <a:latin typeface="Arial"/>
              </a:rPr>
              <a:t>B. La clé primaire : </a:t>
            </a:r>
            <a:br>
              <a:rPr sz="2400"/>
            </a:br>
            <a:r>
              <a:rPr b="1" lang="en-US" sz="1600" spc="-1" strike="noStrike" u="sng">
                <a:solidFill>
                  <a:srgbClr val="9999cc"/>
                </a:solidFill>
                <a:uFillTx/>
                <a:latin typeface="Arial"/>
              </a:rPr>
              <a:t>(ex. la table « INVITES 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5029200"/>
            <a:ext cx="617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sque de confusion pour ces 2 enregistreme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x. dans la suppression ou mise à jour des donné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2560" y="1311480"/>
            <a:ext cx="358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nnexe 1 : Carnet d’adresses à insérer 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1676520"/>
          <a:ext cx="8534520" cy="2895480"/>
        </p:xfrm>
        <a:graphic>
          <a:graphicData uri="http://schemas.openxmlformats.org/drawingml/2006/table">
            <a:tbl>
              <a:tblPr/>
              <a:tblGrid>
                <a:gridCol w="944640"/>
                <a:gridCol w="884160"/>
                <a:gridCol w="673200"/>
                <a:gridCol w="1711080"/>
                <a:gridCol w="1249560"/>
                <a:gridCol w="1816200"/>
                <a:gridCol w="1255680"/>
              </a:tblGrid>
              <a:tr h="7905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X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POS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L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1640"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N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rue de la Far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 GERMAIN EN LAY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NO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rue du Lev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eke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"/>
          <p:cNvSpPr/>
          <p:nvPr/>
        </p:nvSpPr>
        <p:spPr>
          <a:xfrm>
            <a:off x="4038480" y="45720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4800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olution : insertion d’un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lef prima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0" t="10586" r="12797" b="61280"/>
          <a:stretch/>
        </p:blipFill>
        <p:spPr>
          <a:xfrm>
            <a:off x="228600" y="685800"/>
            <a:ext cx="86104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228600" y="685800"/>
            <a:ext cx="1180800" cy="4838760"/>
            <a:chOff x="228600" y="685800"/>
            <a:chExt cx="1180800" cy="4838760"/>
          </a:xfrm>
        </p:grpSpPr>
        <p:sp>
          <p:nvSpPr>
            <p:cNvPr id="451" name=""/>
            <p:cNvSpPr/>
            <p:nvPr/>
          </p:nvSpPr>
          <p:spPr>
            <a:xfrm rot="5400000">
              <a:off x="532800" y="4647960"/>
              <a:ext cx="1028880" cy="723960"/>
            </a:xfrm>
            <a:custGeom>
              <a:avLst/>
              <a:gdLst>
                <a:gd name="textAreaLeft" fmla="*/ 343080 w 1028880"/>
                <a:gd name="textAreaRight" fmla="*/ 881280 w 1028880"/>
                <a:gd name="textAreaTop" fmla="*/ 416880 h 723960"/>
                <a:gd name="textAreaBottom" fmla="*/ 62028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685800"/>
              <a:ext cx="1066680" cy="380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371600" y="5943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actère de ce champs : les doublons sont interd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5257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éfinition : champs qui identifie de manière unique chaque enregistrement de la t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6094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99cc"/>
                </a:solidFill>
                <a:uFillTx/>
                <a:latin typeface="Arial"/>
              </a:rPr>
              <a:t>C. La dépendance fonctionnelle entre données d’une table</a:t>
            </a:r>
            <a:br>
              <a:rPr sz="2400"/>
            </a:br>
            <a:r>
              <a:rPr b="1" lang="en-US" sz="1600" spc="-1" strike="noStrike" u="sng">
                <a:solidFill>
                  <a:srgbClr val="9999cc"/>
                </a:solidFill>
                <a:uFillTx/>
                <a:latin typeface="Arial"/>
              </a:rPr>
              <a:t>(ex. la table « INVITES 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rcRect l="47027" t="10586" r="33145" b="61909"/>
          <a:stretch/>
        </p:blipFill>
        <p:spPr>
          <a:xfrm>
            <a:off x="1752480" y="1295280"/>
            <a:ext cx="4419720" cy="2689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457200" y="5181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. dans la table INVITES, 1 code postal permet de déterminer une ville et une se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5943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’inverse n’est pas vrai car pour une ville, il peut y avoir plusieurs codes postaux (ex.  pour PARIS, plusieurs choix : 75001, 75002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41911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ns un enregistrement, la connaissance d’une valeur d’un champs A permet de déterminer ou connaître avec précision une valeur et une seule d’un champs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762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. Définition de la dépendance fonctionnell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1295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ient 2 champs A et B. Il y a dépendance fonctionnelle entre A et B si la connaissance d’une valeur du champs A permet de connaître une et une seule valeur du champs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2590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présentation graphiqu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200400"/>
            <a:ext cx="8001000" cy="39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 (ex. code postal)   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B (ex. vil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85800" y="3581280"/>
            <a:ext cx="2438280" cy="1623600"/>
            <a:chOff x="685800" y="3581280"/>
            <a:chExt cx="2438280" cy="1623600"/>
          </a:xfrm>
        </p:grpSpPr>
        <p:sp>
          <p:nvSpPr>
            <p:cNvPr id="477" name=""/>
            <p:cNvSpPr/>
            <p:nvPr/>
          </p:nvSpPr>
          <p:spPr>
            <a:xfrm>
              <a:off x="685800" y="4419360"/>
              <a:ext cx="2438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celui qui détermine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133720" y="358128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714640" y="3581280"/>
            <a:ext cx="4267440" cy="1282680"/>
            <a:chOff x="5714640" y="3581280"/>
            <a:chExt cx="4267440" cy="1282680"/>
          </a:xfrm>
        </p:grpSpPr>
        <p:sp>
          <p:nvSpPr>
            <p:cNvPr id="480" name=""/>
            <p:cNvSpPr/>
            <p:nvPr/>
          </p:nvSpPr>
          <p:spPr>
            <a:xfrm>
              <a:off x="7543800" y="44956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714640" y="3581280"/>
              <a:ext cx="19047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419720" y="3581280"/>
            <a:ext cx="1523880" cy="1282680"/>
            <a:chOff x="4419720" y="3581280"/>
            <a:chExt cx="1523880" cy="1282680"/>
          </a:xfrm>
        </p:grpSpPr>
        <p:sp>
          <p:nvSpPr>
            <p:cNvPr id="483" name=""/>
            <p:cNvSpPr/>
            <p:nvPr/>
          </p:nvSpPr>
          <p:spPr>
            <a:xfrm>
              <a:off x="4419720" y="4495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0552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762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. Définition de la dépendance fonctionnell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1295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ient 2 champs A et B. Il y a dépendance fonctionnelle entre A et B si la connaissance d’une valeur du champs A permet de connaître une et une seule valeur du champs 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590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présentation graphiqu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3200400"/>
            <a:ext cx="8001000" cy="39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 (ex. code postal)   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B (ex. vil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85800" y="3581280"/>
            <a:ext cx="2438280" cy="1623600"/>
            <a:chOff x="685800" y="3581280"/>
            <a:chExt cx="2438280" cy="1623600"/>
          </a:xfrm>
        </p:grpSpPr>
        <p:sp>
          <p:nvSpPr>
            <p:cNvPr id="496" name=""/>
            <p:cNvSpPr/>
            <p:nvPr/>
          </p:nvSpPr>
          <p:spPr>
            <a:xfrm>
              <a:off x="685800" y="4419360"/>
              <a:ext cx="2438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celui qui détermine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133720" y="358128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714640" y="3581280"/>
            <a:ext cx="4267440" cy="1282680"/>
            <a:chOff x="5714640" y="3581280"/>
            <a:chExt cx="4267440" cy="1282680"/>
          </a:xfrm>
        </p:grpSpPr>
        <p:sp>
          <p:nvSpPr>
            <p:cNvPr id="499" name=""/>
            <p:cNvSpPr/>
            <p:nvPr/>
          </p:nvSpPr>
          <p:spPr>
            <a:xfrm>
              <a:off x="7543800" y="44956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5714640" y="3581280"/>
              <a:ext cx="19047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419720" y="3581280"/>
            <a:ext cx="1523880" cy="1282680"/>
            <a:chOff x="4419720" y="3581280"/>
            <a:chExt cx="1523880" cy="1282680"/>
          </a:xfrm>
        </p:grpSpPr>
        <p:sp>
          <p:nvSpPr>
            <p:cNvPr id="502" name=""/>
            <p:cNvSpPr/>
            <p:nvPr/>
          </p:nvSpPr>
          <p:spPr>
            <a:xfrm>
              <a:off x="4419720" y="4495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éterm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10552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33520" y="2590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en-US" sz="1800" spc="-1" strike="noStrike" u="sng" baseline="30000">
                <a:solidFill>
                  <a:srgbClr val="ffffff"/>
                </a:solidFill>
                <a:uFillTx/>
                <a:latin typeface="Arial"/>
              </a:rPr>
              <a:t>er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ype : la dépendance fonctionnelle uniqu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1671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3520" y="2133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en-US" sz="1800" spc="-1" strike="noStrike" u="sng" baseline="30000">
                <a:solidFill>
                  <a:srgbClr val="ffffff"/>
                </a:solidFill>
                <a:uFillTx/>
                <a:latin typeface="Arial"/>
              </a:rPr>
              <a:t>er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ype : la dépendance fonctionnelle multipl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3124080"/>
            <a:ext cx="8001000" cy="39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 (ex. code postal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B (ex. vil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le résultat à atteindre à l’issue de l’activité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rcRect l="3138" t="22936" r="43597" b="44948"/>
          <a:stretch/>
        </p:blipFill>
        <p:spPr>
          <a:xfrm>
            <a:off x="838080" y="2743200"/>
            <a:ext cx="7388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troduction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éfinition d’une donné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nseignement exploitable de manière automatisé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éfinition d’une base de donné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lection de données sur un sujet pré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. la base de données « élève » 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écolte les informations sur les élèves du lycée : nom, prénom, class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diagramme des flux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1676520"/>
            <a:ext cx="8762760" cy="4960440"/>
            <a:chOff x="0" y="1676520"/>
            <a:chExt cx="8762760" cy="4960440"/>
          </a:xfrm>
        </p:grpSpPr>
        <p:sp>
          <p:nvSpPr>
            <p:cNvPr id="518" name=""/>
            <p:cNvSpPr/>
            <p:nvPr/>
          </p:nvSpPr>
          <p:spPr>
            <a:xfrm>
              <a:off x="6798960" y="1676520"/>
              <a:ext cx="1510560" cy="113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e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0160" y="5492520"/>
              <a:ext cx="1510920" cy="11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rét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3775320"/>
              <a:ext cx="1359720" cy="1526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ureau de Po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45720" y="2630160"/>
              <a:ext cx="906480" cy="2862000"/>
            </a:xfrm>
            <a:custGeom>
              <a:avLst/>
              <a:gdLst/>
              <a:ahLst/>
              <a:rect l="l" t="t" r="r" b="b"/>
              <a:pathLst>
                <a:path w="874" h="2880">
                  <a:moveTo>
                    <a:pt x="873" y="2880"/>
                  </a:moveTo>
                  <a:lnTo>
                    <a:pt x="0" y="2265"/>
                  </a:lnTo>
                  <a:lnTo>
                    <a:pt x="0" y="739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5360" y="2820960"/>
              <a:ext cx="578880" cy="2671200"/>
            </a:xfrm>
            <a:custGeom>
              <a:avLst/>
              <a:gdLst/>
              <a:ahLst/>
              <a:rect l="l" t="t" r="r" b="b"/>
              <a:pathLst>
                <a:path w="664" h="2880">
                  <a:moveTo>
                    <a:pt x="663" y="2880"/>
                  </a:moveTo>
                  <a:lnTo>
                    <a:pt x="0" y="2278"/>
                  </a:lnTo>
                  <a:lnTo>
                    <a:pt x="0" y="731"/>
                  </a:lnTo>
                  <a:lnTo>
                    <a:pt x="6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56640" y="2820960"/>
              <a:ext cx="150840" cy="2671200"/>
            </a:xfrm>
            <a:custGeom>
              <a:avLst/>
              <a:gdLst/>
              <a:ahLst/>
              <a:rect l="l" t="t" r="r" b="b"/>
              <a:pathLst>
                <a:path w="298" h="2520">
                  <a:moveTo>
                    <a:pt x="0" y="0"/>
                  </a:moveTo>
                  <a:lnTo>
                    <a:pt x="298" y="881"/>
                  </a:lnTo>
                  <a:lnTo>
                    <a:pt x="298" y="1934"/>
                  </a:lnTo>
                  <a:lnTo>
                    <a:pt x="1" y="2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58680" y="2630160"/>
              <a:ext cx="604080" cy="3052800"/>
            </a:xfrm>
            <a:custGeom>
              <a:avLst/>
              <a:gdLst/>
              <a:ahLst/>
              <a:rect l="l" t="t" r="r" b="b"/>
              <a:pathLst>
                <a:path w="704" h="3060">
                  <a:moveTo>
                    <a:pt x="0" y="3060"/>
                  </a:moveTo>
                  <a:lnTo>
                    <a:pt x="704" y="2208"/>
                  </a:lnTo>
                  <a:lnTo>
                    <a:pt x="704" y="1241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9720" y="4919760"/>
              <a:ext cx="559008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6120" y="5301720"/>
              <a:ext cx="634572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1359720" y="4538160"/>
              <a:ext cx="574128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638680" y="1600200"/>
            <a:ext cx="3353040" cy="510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9720" y="990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maine d’étude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estion de l’envoi des cartons d’invitation par courr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4824000" y="34812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e liste d’invités (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5891760" y="386136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unication de la liste d’invités (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6775560" y="3587400"/>
            <a:ext cx="25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resses à rajouter dans le carnet  d’adresses(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7825320" y="416628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net d’adresses mis à jour (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658200">
            <a:off x="1904760" y="45720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’envoi groupé (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658200">
            <a:off x="1915920" y="5116680"/>
            <a:ext cx="35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n de confirmation d’envoi (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658200">
            <a:off x="2057040" y="5562720"/>
            <a:ext cx="35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our du courrier (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du logiciel nécessaires pour l’activit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aisie du carnet d’a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1600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Mise à jour des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" y="22096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ossibilité d’effectuer des tris dans la base de données (ex. : par disponibilité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31240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dition d’étiquettes d’adress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du logiciel Acces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able : permet de créer les tables et insérer les donné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Formulaire : permet d’ajouter ou mettre à jour les données dans les tables sans changer la structure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2590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Requêtes : permet d’interroger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276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tat : permet d’éditer de réaliser des documents imprimables à partir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ésentation de l’activité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190512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Agence événementi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Organisation de soirées, de concert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895480" cy="1073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5029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 de l’activit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2666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bjectif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planter une base de données pour gérer l’envoi des cartons d’invitation par cour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609480"/>
            <a:ext cx="60958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749"/>
              </a:spcBef>
              <a:buClr>
                <a:srgbClr val="00007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Les donné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A. Les types de donné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447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ieurs forme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 type numérique (nombres)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née qui va permettre d’effectuer des calcu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72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 type Date/He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2819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 type logique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nées qui permettent un traitement rapide : ex. oui/non, vrai/faux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3809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 type texte ou alphanumérique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utes les données qui ne vont pas faire l’objet de calcu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54100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autres types de donnée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, image, vidéo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. Le dictionnaire des données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1066680"/>
            <a:ext cx="84582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éfinition 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aire de l’ensemble des types de données à introduire dans la base de 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9810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présent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2362320"/>
          <a:ext cx="8229600" cy="3908160"/>
        </p:xfrm>
        <a:graphic>
          <a:graphicData uri="http://schemas.openxmlformats.org/drawingml/2006/table">
            <a:tbl>
              <a:tblPr/>
              <a:tblGrid>
                <a:gridCol w="2421000"/>
                <a:gridCol w="2743200"/>
                <a:gridCol w="3065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re ou nom de la colonn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e données 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mple de valeurs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. Le dictionnaire des données 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1066680"/>
            <a:ext cx="84582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éfini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ventaire de l’ensemble des types de données à introduire dans la base de 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810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présent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2362320"/>
          <a:ext cx="8229600" cy="4016160"/>
        </p:xfrm>
        <a:graphic>
          <a:graphicData uri="http://schemas.openxmlformats.org/drawingml/2006/table">
            <a:tbl>
              <a:tblPr/>
              <a:tblGrid>
                <a:gridCol w="2421000"/>
                <a:gridCol w="2743200"/>
                <a:gridCol w="3065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re ou nom de la colonne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de données 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mple de valeurs 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INV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POS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 WEEK 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 SEMA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numér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q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N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vi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rue du Cy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2280" y="228600"/>
            <a:ext cx="85345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. La structuration des données dans une b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de donné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144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333399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La table : </a:t>
            </a:r>
            <a:br>
              <a:rPr sz="2400"/>
            </a:b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(ex. la table « INVITES 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10586" r="12797" b="61280"/>
          <a:stretch/>
        </p:blipFill>
        <p:spPr>
          <a:xfrm>
            <a:off x="1066680" y="2286000"/>
            <a:ext cx="6734160" cy="22096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1371600"/>
            <a:ext cx="8229600" cy="38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038480"/>
            <a:ext cx="1309680" cy="2116080"/>
          </a:xfrm>
          <a:custGeom>
            <a:avLst/>
            <a:gdLst/>
            <a:ahLst/>
            <a:rect l="l" t="t" r="r" b="b"/>
            <a:pathLst>
              <a:path w="832" h="1333">
                <a:moveTo>
                  <a:pt x="7" y="0"/>
                </a:moveTo>
                <a:lnTo>
                  <a:pt x="0" y="1333"/>
                </a:lnTo>
                <a:lnTo>
                  <a:pt x="832" y="133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5334120"/>
            <a:ext cx="6172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éfini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cueil de données sous forme de tabl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va pouvoir ajouter, supprimer, modifier les données à l’intérieur de l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rcRect l="0" t="10586" r="71830" b="61909"/>
          <a:stretch/>
        </p:blipFill>
        <p:spPr>
          <a:xfrm>
            <a:off x="152280" y="2035080"/>
            <a:ext cx="6934320" cy="2689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-112680" y="3075120"/>
            <a:ext cx="57132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5920" y="13712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00" y="4231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5920" y="4842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4480" y="55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5334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champs  (ou attributs)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orrespondent aux colonnes des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1905120"/>
            <a:ext cx="2209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4876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</cp:lastModifiedBy>
  <dcterms:modified xsi:type="dcterms:W3CDTF">2009-12-05T12:34:5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